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35169"/>
        <c:axId val="65540180"/>
      </c:barChart>
      <c:catAx>
        <c:axId val="98935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0180"/>
        <c:crosses val="autoZero"/>
        <c:auto val="1"/>
        <c:lblAlgn val="ctr"/>
        <c:lblOffset val="100"/>
        <c:noMultiLvlLbl val="0"/>
      </c:catAx>
      <c:valAx>
        <c:axId val="65540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35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269-1BFB-4C6F-A6E6-914EB883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284-3CB7-42A1-A699-F91F30F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890-5987-4DB1-8DB2-0B28C462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740-F6F7-4EAF-9752-B9B87B4E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ACD-BB2E-40F2-B83F-AAFCEF7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FF6-E1E8-4019-B52E-7FFB97E0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964-197D-4926-9D0A-DC26A77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A0E-253E-4408-92FF-1152B3D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ECC-453B-4EB3-9669-BAFA3663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6CF-7F6B-414B-B35C-8D48A1E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A11-CC95-4BCA-9664-5B4A535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4B9-AD87-4039-9876-C5F0810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C8E83-C932-4CFF-9D19-7DE21B68F0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