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6596"/>
        <c:axId val="99966540"/>
      </c:barChart>
      <c:catAx>
        <c:axId val="6966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66540"/>
        <c:crosses val="autoZero"/>
        <c:auto val="1"/>
        <c:lblAlgn val="ctr"/>
        <c:lblOffset val="100"/>
        <c:noMultiLvlLbl val="0"/>
      </c:catAx>
      <c:valAx>
        <c:axId val="99966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716-D447-492D-A76E-079C3E9E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A96-5A7B-43C8-99D9-36C162F9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904-5BC8-4AA4-93D9-1A7D672C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B34-3F37-402F-9347-8B244306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E28-3CE0-4B03-8672-F2F7421A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569-4D45-40E1-B3C2-3B940FCA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870-8E80-48CE-BB8A-3897DF1D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930-54BA-4A83-B68D-53EFCF80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AA6-1D06-46E0-BA64-C24D518A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64F-44FB-4B92-9BDE-6FF45DA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8E3-F2F9-48D7-A13E-EB97820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63F-E88D-4292-BB48-2756BD62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3AE00-1708-4F7F-9C93-1CD942617F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