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22039"/>
        <c:axId val="6219249"/>
      </c:barChart>
      <c:catAx>
        <c:axId val="20722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9249"/>
        <c:crosses val="autoZero"/>
        <c:auto val="1"/>
        <c:lblAlgn val="ctr"/>
        <c:lblOffset val="100"/>
        <c:noMultiLvlLbl val="0"/>
      </c:catAx>
      <c:valAx>
        <c:axId val="6219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22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639-6036-4B80-9FB7-CBCB351B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73F-ABCC-4DBF-B974-FE203177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59E-E698-4187-913C-E7042236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BF6-3B34-4D7C-B54F-5582A3EC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FCC-1002-4F88-9E09-2CF97837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23F-FE8F-47DE-A1F2-A1D54923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CF4-3CD2-41E4-9D2F-EF4C6A47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AE6-184F-44B1-8A92-ED62F7CF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05A-8A4F-4733-A952-133050C6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0EC-0793-4F3C-A470-036450B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2D6-36F1-4132-AAAA-7534E17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41C-9283-45B7-A544-7769233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43319-1152-437B-A1DC-30D4279695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