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08480"/>
        <c:axId val="98000874"/>
      </c:barChart>
      <c:catAx>
        <c:axId val="126084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00874"/>
        <c:crosses val="autoZero"/>
        <c:auto val="1"/>
        <c:lblAlgn val="ctr"/>
        <c:lblOffset val="100"/>
        <c:noMultiLvlLbl val="0"/>
      </c:catAx>
      <c:valAx>
        <c:axId val="98000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084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519C-A363-4A0B-A8A5-DD3DD8A7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4472-74DB-48BD-B342-9827ED8A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3796-B314-40C9-9FD1-85CDCC97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B967-1565-48BE-B5D3-FBB7D8D5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247-C3D6-4FFD-A942-1ADDE692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0CD6-B59F-491D-A7E9-08320837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F933-3FED-42A6-A9B5-94FAE11A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717-C2C3-4AF3-82C0-A8D50003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0A0C-C974-457E-992F-BA93B3B0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80F6-35B5-416F-AF85-D88A8CA3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4F9-DEE0-4D74-879F-FB8E3F8E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ABA6-9228-40B2-9805-070308E6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3F433-8F73-4BA3-8B2F-39DB833C10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