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0485"/>
        <c:axId val="5641075"/>
      </c:barChart>
      <c:catAx>
        <c:axId val="4832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075"/>
        <c:crosses val="autoZero"/>
        <c:auto val="1"/>
        <c:lblAlgn val="ctr"/>
        <c:lblOffset val="100"/>
        <c:noMultiLvlLbl val="0"/>
      </c:catAx>
      <c:valAx>
        <c:axId val="5641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170-07A9-4417-95B9-DD4ECE7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623-4807-4E21-9DB7-0EF6518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DF4-4CCD-4397-8990-816CEF4D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8D5-00EF-49FF-8C35-9B330566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B7B-9928-4933-AE79-BDA4467D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189-74A0-4ADF-ABF4-89850C1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006-9E87-4609-A2B8-B52CB2F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CF9-07D4-47F9-8BB4-8565B9C3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DD6-34AA-4AC5-B3D1-3886F27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516-CA37-4E96-87F0-9500423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516-42D3-483F-A6DC-8B4D40C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23E-F992-47E0-908B-BB4082E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8A315-807E-4836-B593-A18130F1B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