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98048"/>
        <c:axId val="75505330"/>
      </c:barChart>
      <c:catAx>
        <c:axId val="83798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5330"/>
        <c:crosses val="autoZero"/>
        <c:auto val="1"/>
        <c:lblAlgn val="ctr"/>
        <c:lblOffset val="100"/>
        <c:noMultiLvlLbl val="0"/>
      </c:catAx>
      <c:valAx>
        <c:axId val="75505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98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C85-5DFB-4F55-B8C9-BA4056A2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FEB-B93E-4AC0-BF73-BA8DC468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D2A-AD80-449C-BCD1-84E3E25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4AA-0774-4F13-86A5-69BD0C4C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E98-0AAE-46B7-9570-B48C659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BFE-FB02-4BBC-8351-7BA49A47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7F5-81FE-4C4B-A19E-5F0B065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D7F-8FAD-4979-87B5-F0F9C01F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32E-A4A7-462F-A8A4-F163AD57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1A4-E4A2-4009-8515-E0D3B2A9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63F-2DAE-482C-AD8D-642BA58D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6ED-F90A-42C8-A5E1-24B8CA8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550E2-4AC9-49FC-B997-49E3BBFF4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