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78421"/>
        <c:axId val="57876311"/>
      </c:barChart>
      <c:catAx>
        <c:axId val="65378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76311"/>
        <c:crosses val="autoZero"/>
        <c:auto val="1"/>
        <c:lblAlgn val="ctr"/>
        <c:lblOffset val="100"/>
        <c:noMultiLvlLbl val="0"/>
      </c:catAx>
      <c:valAx>
        <c:axId val="57876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8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B9E-CB70-46CE-B05A-8DF95858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78C-5728-401D-BB80-8BEB9C7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5EB-FD58-4B8E-984B-8F8C408B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FE0-EE10-4ED1-AEA0-F59041C6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F04-B715-4DB6-BC1A-50A7782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7F-1D56-4DB9-A9BA-B45CCAC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833-D80C-4386-B354-FE125DE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18F-19F9-4595-A5A0-26F0D2D8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C12-D5C5-41CA-A1EF-18377AB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5D1-2478-44B9-8EEF-6D40FEF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D72-E390-44D6-B15B-CE6B3C5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C2C-AA45-4CEE-9531-1DD9A83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8D82C-6593-4D15-A160-905DA00EF1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