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379342"/>
        <c:axId val="87221082"/>
      </c:barChart>
      <c:catAx>
        <c:axId val="893793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21082"/>
        <c:crosses val="autoZero"/>
        <c:auto val="1"/>
        <c:lblAlgn val="ctr"/>
        <c:lblOffset val="100"/>
        <c:noMultiLvlLbl val="0"/>
      </c:catAx>
      <c:valAx>
        <c:axId val="87221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793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EC39-951B-4C02-AB03-32AA3584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1E9-018F-42A1-8318-4577EDBA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320-F299-46F3-A21F-7FAA79FB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938-23B9-4264-89A5-81F68B61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EF68-45F0-4AE0-9D52-F7C64BBD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4567-9E55-405F-9989-F86CB121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F24-58C6-4181-B610-BF503EC9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2C97-4539-4CBF-AE7E-DCDFBB0A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046-AAE9-449A-944A-8C7297A0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ADB2-85EE-4051-96CB-D48F8420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C141-6081-46BE-A4C0-90C875AB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C53A-B8D2-4C8A-B8F9-C28BE2B0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EED8B-9598-4437-8748-A9A1BA8147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