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02129"/>
        <c:axId val="58163623"/>
      </c:barChart>
      <c:catAx>
        <c:axId val="75802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63623"/>
        <c:crosses val="autoZero"/>
        <c:auto val="1"/>
        <c:lblAlgn val="ctr"/>
        <c:lblOffset val="100"/>
        <c:noMultiLvlLbl val="0"/>
      </c:catAx>
      <c:valAx>
        <c:axId val="58163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02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596-5E63-4A82-9D14-7D54BD9B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9FA-E251-41D0-99E2-ACD18FAC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DFF-CF69-4DA1-A64B-E1B30BFF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E9E-4E41-4D4D-BD4D-A1983C9B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495-584F-4436-816D-0A8C2D20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D76-CCD8-4045-BF92-76A09028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B2A-6495-4F87-BD67-01DBF942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4D9-D94C-4506-ABDC-3A946924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38E-B36B-498E-8688-610F3802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35B-880A-4DB8-A52D-71E28788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D21E-0D73-40D1-B6AF-C271801A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5C3-E0C2-4C5C-B786-43249D4D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0F633-F0ED-41A7-9FA4-65EF2D52D5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