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23781"/>
        <c:axId val="31992803"/>
      </c:barChart>
      <c:catAx>
        <c:axId val="54323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2803"/>
        <c:crosses val="autoZero"/>
        <c:auto val="1"/>
        <c:lblAlgn val="ctr"/>
        <c:lblOffset val="100"/>
        <c:noMultiLvlLbl val="0"/>
      </c:catAx>
      <c:valAx>
        <c:axId val="31992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23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6BD-34CD-46CF-B12A-F1F39F4C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7EB-F492-4721-B874-B9BAA61D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AA1-9D54-40DF-8A6B-44702FF6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1A3-2E54-4DD0-9B24-62A14E11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A2A-A171-4E99-9B4A-97EADC6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3C0-7C95-4A7B-9520-D77EBFF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339-82E5-4F91-9C52-EFF82766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92D-6A2A-45C4-80BA-F478CC79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9DB-0202-4698-87C8-B184C613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B87-C437-47C0-AFCD-D5304AEE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345-9166-4ED9-93BC-D886E3B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E9E-906C-4EC3-97BB-0766D19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F45F8-9D3F-481A-A361-BB55DD808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