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093000"/>
        <c:axId val="89086959"/>
      </c:barChart>
      <c:catAx>
        <c:axId val="670930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86959"/>
        <c:crosses val="autoZero"/>
        <c:auto val="1"/>
        <c:lblAlgn val="ctr"/>
        <c:lblOffset val="100"/>
        <c:noMultiLvlLbl val="0"/>
      </c:catAx>
      <c:valAx>
        <c:axId val="890869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0930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1EDD-EE2E-4BC0-A432-1EAA4965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2FE8-3AB8-4B40-9D84-08A229DC7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A7F5-E3FA-4087-8B2E-5779DC31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8A31-74A6-4757-9147-8001F775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A79-D55B-424A-9E69-28BCAE48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47D-6415-46DC-BE56-DF4204F23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9F7-5E20-44E5-AA6B-DAC4B46A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913-7828-455A-AFED-4D4BC62D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E9D0-7DC1-4406-B63E-2A5AFDE7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71B-13AD-4508-ABE2-895DC1B2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7AEB-2411-4AFE-95AF-2005A95C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2B8A-B4BB-4EBD-A684-FBF92297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83BD3E-013A-495F-AC29-9446B0342D5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