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854113"/>
        <c:axId val="4540865"/>
      </c:barChart>
      <c:catAx>
        <c:axId val="688541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0865"/>
        <c:crosses val="autoZero"/>
        <c:auto val="1"/>
        <c:lblAlgn val="ctr"/>
        <c:lblOffset val="100"/>
        <c:noMultiLvlLbl val="0"/>
      </c:catAx>
      <c:valAx>
        <c:axId val="45408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541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BEFF-A362-4D7C-9472-CB8B63FC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8CAE-0A43-4B78-8526-8D82BB08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8CAF-3F02-4B71-BEE3-C7DCB45A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D018-F25D-498F-92AF-057250BE8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BAD3-8A2C-48D6-A23B-32D83645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D47C-0D2F-4B3D-9736-4656B844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48E8-B3F5-4EF9-8215-E4749D3E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A85B-CB23-4163-8BB4-DD9AF061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955-75A2-45B7-9B07-4C571803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3119-24EB-47D6-AB66-1BD75D69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6604-6178-45E6-B681-981EE7B6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98A2-FA93-440E-8BF8-B5D09089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DDA82-7610-4F5D-A9C8-FA6ACE6D9F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