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01192"/>
        <c:axId val="60754541"/>
      </c:barChart>
      <c:catAx>
        <c:axId val="65801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54541"/>
        <c:crosses val="autoZero"/>
        <c:auto val="1"/>
        <c:lblAlgn val="ctr"/>
        <c:lblOffset val="100"/>
        <c:noMultiLvlLbl val="0"/>
      </c:catAx>
      <c:valAx>
        <c:axId val="60754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1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D82-1A8E-4738-82D9-37E41290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CC7-5E53-42C4-8EEA-CDCD80B3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C7D-ED74-4A15-BE2D-E1BA4632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001-6EFF-4882-9D31-1971E4C0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81B-379A-4689-9721-8D3B4774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2AF-BFDA-48CF-A065-95BF5FF5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13A-E91F-4FD7-B87B-DFF3BB37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995-CCAD-4AAC-A46D-43CA507A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F6F-B785-4068-87A8-37A628D3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46E-7797-4CFF-A709-90DEFCD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EA6-2AA8-48D2-96F0-3AAD940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9F9-3DA8-4A4F-ACD6-97A39AD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789CE-DA3D-4A6F-8C0D-7B0140B39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