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64097"/>
        <c:axId val="10021046"/>
      </c:barChart>
      <c:catAx>
        <c:axId val="86664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21046"/>
        <c:crosses val="autoZero"/>
        <c:auto val="1"/>
        <c:lblAlgn val="ctr"/>
        <c:lblOffset val="100"/>
        <c:noMultiLvlLbl val="0"/>
      </c:catAx>
      <c:valAx>
        <c:axId val="10021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64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7D91-6A7A-4C17-B538-8111DB90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8D6-56E5-4E2E-8074-840137A1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7EC-4F36-4747-AA08-4C39803F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8B9-47DB-4D94-88C4-40E289A8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70E-00BA-4710-A4E7-A53BF50A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673-6434-4B84-A3F5-9C0EC027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9B7-9B2E-48BE-8059-3628DE66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C66-3F71-4B69-B508-180A1948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CD3-DAD3-4F6B-9028-A4672B16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DC0-B73D-4C81-8E86-C0C17E9F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42D-316C-494F-A1BC-E7FD7EE5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B96-FC7D-443D-B127-90525FC8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C14BA-4896-4009-BB9C-D40E26B8A7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