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835462"/>
        <c:axId val="30336927"/>
      </c:barChart>
      <c:catAx>
        <c:axId val="968354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336927"/>
        <c:crosses val="autoZero"/>
        <c:auto val="1"/>
        <c:lblAlgn val="ctr"/>
        <c:lblOffset val="100"/>
        <c:noMultiLvlLbl val="0"/>
      </c:catAx>
      <c:valAx>
        <c:axId val="303369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8354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59D9-FCC0-46B5-9394-C5039BBD9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0A80-4429-486C-8D88-D8FB43606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8941-E037-4530-BD20-ADE7B199E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DD5A-B7FE-489C-A896-9FA21967C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52EE-7DEE-4D9E-A4D2-CD413B9E4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0586-B519-49DF-BC3A-B50911E43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D565-28F7-483E-BE51-914ACF2E3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2BF1-C4DE-4206-81B4-57D673445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9493-F6C8-4AE8-93B1-00B397879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B13F-01AA-4E8E-8379-76BF3675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4EA4-D4F2-4FFC-BF37-C366BC8F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A8BB-4906-4332-88BA-44DACCC7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82D8E4-F48E-4C5C-80E4-1C0800B6A5B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