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58487"/>
        <c:axId val="62920287"/>
      </c:barChart>
      <c:catAx>
        <c:axId val="883584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20287"/>
        <c:crosses val="autoZero"/>
        <c:auto val="1"/>
        <c:lblAlgn val="ctr"/>
        <c:lblOffset val="100"/>
        <c:noMultiLvlLbl val="0"/>
      </c:catAx>
      <c:valAx>
        <c:axId val="629202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584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BCEB-679B-481E-BC8D-812E79EB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C1E1-91E6-433A-A727-789FE981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092-F9FC-422A-A4C3-918780A5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55CB-C560-4DEF-884E-7E9DE3CD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E6A-F77A-47BA-8077-E97A1A32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752-2ABF-43D9-99EA-01956F89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0C89-164C-4711-8E26-288EA5617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1C4E-2D6E-4BEC-9E44-1FDE6010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2841-6331-409C-B2B0-C7B2C38B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197B-27B1-4090-889A-155FB55E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D13D-96F0-4A50-A3C8-975B6ECF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1761-EE87-48F4-A80E-D4E010DD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CAB66-43F1-4AD3-9FF3-E3D4F1D4C2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