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54689"/>
        <c:axId val="34593445"/>
      </c:barChart>
      <c:catAx>
        <c:axId val="266546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93445"/>
        <c:crosses val="autoZero"/>
        <c:auto val="1"/>
        <c:lblAlgn val="ctr"/>
        <c:lblOffset val="100"/>
        <c:noMultiLvlLbl val="0"/>
      </c:catAx>
      <c:valAx>
        <c:axId val="34593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546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0C23-1E2C-4CD9-AE61-9BC4CDF9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1FE-9B3B-426C-BFE0-DC6494D4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5ED-80AE-4B6E-B26D-390C22B9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7DEF-727F-456A-A3B8-408C475A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2CA-5F4F-490D-B051-A4DB0B6F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6D8-4126-4AEC-9A22-B365BD9E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D0B-C8C4-40D8-AA4D-850455F0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87A-E0AF-467C-9412-D5A82A8C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336E-B324-4692-A2EC-EABA7AFB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C843-1B71-4036-8D47-1632B823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A3E-0AAF-4C59-B6E1-DBA3C52A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CD4-EF3E-4DE6-BD6C-6B68FE4B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9CB0E-83E2-424C-8A5E-C6F1FCAD90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