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17811"/>
        <c:axId val="61834410"/>
      </c:barChart>
      <c:catAx>
        <c:axId val="88417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34410"/>
        <c:crosses val="autoZero"/>
        <c:auto val="1"/>
        <c:lblAlgn val="ctr"/>
        <c:lblOffset val="100"/>
        <c:noMultiLvlLbl val="0"/>
      </c:catAx>
      <c:valAx>
        <c:axId val="61834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17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3B3-6CCB-45CD-962D-4C63007A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F4C-AE08-47B3-8463-5977E961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3E6-4C53-4779-8C62-B14BB54C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265-1236-4414-9D4B-2721ACDA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82C-A557-4ADB-BE1B-120C71A4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889-7E89-406D-BB53-8794E525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497-CB79-40C5-9DD1-40D799B8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44E-FE7A-4326-A82F-BFC3202B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8F1-B493-4A63-9CDB-52708D3B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DC2-D102-4919-9B8F-591D40A5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471-FEA1-4FF6-8B5C-74060CFE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FF4-F2E3-4EAF-A46F-4B302FCF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BE22F-9558-42F2-A935-EBFFD40790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