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29484"/>
        <c:axId val="18662195"/>
      </c:barChart>
      <c:catAx>
        <c:axId val="94629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62195"/>
        <c:crosses val="autoZero"/>
        <c:auto val="1"/>
        <c:lblAlgn val="ctr"/>
        <c:lblOffset val="100"/>
        <c:noMultiLvlLbl val="0"/>
      </c:catAx>
      <c:valAx>
        <c:axId val="18662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29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4F3-A262-4AF5-9776-DE8258C8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C8A-061C-45D2-92F2-4A053421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C4D-90E4-49A8-89DE-D0CBD40D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116-F544-433C-B73E-EB980946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F47-0814-4B70-B84E-5D07D118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4EA-265A-4EF9-8FA4-45E5A895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4BC-359B-479B-B578-9856B696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062-071A-46A9-9E60-CFEA9765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9F7-E9FE-4EB0-A473-DE1F1601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86B-A795-4AA4-9291-18098F7F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26D-2294-4EF2-9C43-FB2D38BE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334-FF1D-4419-B1B9-C0646EFB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F7675-C1DB-4228-B2DC-3E8CBA05CC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