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0597015"/>
        <c:axId val="47154258"/>
      </c:barChart>
      <c:catAx>
        <c:axId val="9059701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154258"/>
        <c:crosses val="autoZero"/>
        <c:auto val="1"/>
        <c:lblAlgn val="ctr"/>
        <c:lblOffset val="100"/>
        <c:noMultiLvlLbl val="0"/>
      </c:catAx>
      <c:valAx>
        <c:axId val="4715425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59701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9786-D409-4F5A-BA55-100D9C245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DE02-CDD7-41FD-A576-5EBE75AFC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7A19-94D2-4F9D-AFAD-DBFA53177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E356-6474-499F-84FF-AD015594C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378F-3A7C-44E8-9A1A-5444FB960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B60E-B54E-4853-9FB5-A96754738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FC55-165B-485B-9D4B-A16303DBD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67C2-8A2C-419F-9FC2-31ECD2454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B6E0-E452-4A15-9B99-BB151CEF5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CACF-ADB5-4800-948A-A89B75215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64F8-E623-47D1-95F6-3D9D0CB74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40F2-94E9-435F-AFFC-C88C1A2FE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AAE885-3223-4F6A-9A9A-5D27B8B9766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