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45765"/>
        <c:axId val="61243924"/>
      </c:barChart>
      <c:catAx>
        <c:axId val="49145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43924"/>
        <c:crosses val="autoZero"/>
        <c:auto val="1"/>
        <c:lblAlgn val="ctr"/>
        <c:lblOffset val="100"/>
        <c:noMultiLvlLbl val="0"/>
      </c:catAx>
      <c:valAx>
        <c:axId val="612439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45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52F1-A9C4-4746-8380-399BD98B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328-B19F-4507-978F-6AADB7AD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9D92-C884-4810-85A7-23BEBD06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F3B-C121-4DC1-A33D-A629A9B2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C05F-B7BA-4870-A536-B7365ECF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5B0B-8357-4163-98D5-5270B9D3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39FE-EFCB-49F3-BDCA-2C5E06A1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D885-C7D6-4AC5-8E16-B0AFF1FC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09C-CCB6-4C5B-8466-C5DEFC0C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FDC-54B4-42A4-8472-A15A8C10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775-7D2C-4C79-B9B5-F1D185C8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7832-93D0-4FB7-AD9C-7BCF4F63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8FFEE-003A-42D5-9940-725B6CA690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