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50980"/>
        <c:axId val="47168388"/>
      </c:barChart>
      <c:catAx>
        <c:axId val="19850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68388"/>
        <c:crosses val="autoZero"/>
        <c:auto val="1"/>
        <c:lblAlgn val="ctr"/>
        <c:lblOffset val="100"/>
        <c:noMultiLvlLbl val="0"/>
      </c:catAx>
      <c:valAx>
        <c:axId val="47168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50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6B6-43BF-447A-8D7B-BC9F4991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6DB-7040-4278-B929-31D828E3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A8F-52D5-44C7-BA71-196FBD72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227-E5F5-45F7-AEAE-CE17A382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904-2766-434E-93EC-F3D8E3AA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077-7FF6-4699-9183-A103D32D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413-2A23-4064-A2EE-22281005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832-BF14-48BA-A01B-DEB7CB35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112-7788-448E-B0B0-AA29C5E9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252-E941-4841-B795-1A0C936A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FA7-32EA-4F73-9898-8FDA9D4F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EBA-A0FD-402B-A86E-B5CCF859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C72BE-EDD2-40E2-94D4-C0172DFAC7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