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98451"/>
        <c:axId val="28196849"/>
      </c:barChart>
      <c:catAx>
        <c:axId val="23998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196849"/>
        <c:crosses val="autoZero"/>
        <c:auto val="1"/>
        <c:lblAlgn val="ctr"/>
        <c:lblOffset val="100"/>
        <c:noMultiLvlLbl val="0"/>
      </c:catAx>
      <c:valAx>
        <c:axId val="281968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98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562-A6F2-4A2F-9ADA-6B5759664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F3B-504D-4595-A754-20E778D4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172A-3A82-4FC4-A56E-AAB209620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426D-46F2-4DF8-92B4-46A58206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35E-2853-4F79-AD3F-85D7E2D2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A4B3-1FC1-4CEF-94B5-4693D291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C94-15A9-4C59-B527-D5E4BB80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B02-16E7-47AA-815E-BA744E3D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41B-7D12-425D-9C6A-3D69E49C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8CC7-4DA5-4C84-86A1-CD793099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9FB-5F1A-44D0-83DB-43094EDB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376A-63AA-4D62-B31F-B676E60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F6AEC-3E98-46E6-BA41-642F954129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