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6467621"/>
        <c:axId val="1892572"/>
      </c:barChart>
      <c:catAx>
        <c:axId val="5646762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92572"/>
        <c:crosses val="autoZero"/>
        <c:auto val="1"/>
        <c:lblAlgn val="ctr"/>
        <c:lblOffset val="100"/>
        <c:noMultiLvlLbl val="0"/>
      </c:catAx>
      <c:valAx>
        <c:axId val="189257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46762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A36A1-55B3-4A09-951B-A5AD01A37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BFB43-A42A-4CF5-9FA1-484FE9C41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27933-76EC-41FF-A917-82C342409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1D082-5C43-4D08-864D-323643311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FFFE5-C6B6-4340-825A-BF61CD1F4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DCD12-9923-4846-8A8C-5190AB50A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A4747-FDF3-43D4-9EDC-2D9C20921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65A1F-8BB8-440A-9A39-450A73679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5927E-6B07-48DB-802A-364879557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1B12E-FECA-49D8-8EA5-526A2D2C5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02C82-DF81-4874-A72A-159BB85BA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1C08D-09B8-4550-BD72-F1F3E8D68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695C15-B292-409D-911C-93FDF7E96E8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