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93122"/>
        <c:axId val="95565648"/>
      </c:barChart>
      <c:catAx>
        <c:axId val="51493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65648"/>
        <c:crosses val="autoZero"/>
        <c:auto val="1"/>
        <c:lblAlgn val="ctr"/>
        <c:lblOffset val="100"/>
        <c:noMultiLvlLbl val="0"/>
      </c:catAx>
      <c:valAx>
        <c:axId val="95565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3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BD1-CA28-4937-8B0D-43706917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5D6-D07D-43AB-9D91-03B68A00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47F-F65C-44C6-9FE8-FD4090FB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468-7612-4536-A8E9-4FF212E3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30F-5AA0-40B8-957E-B1C70C68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8FE-367F-4856-8750-DA79862C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BE4-C62A-4653-8700-6DF5C7C9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3E4-C00F-4B5A-ADC2-4EA22096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BC7-7E2D-464B-B937-332935B0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6DC-9CD9-40D9-8490-1AA34B5D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000-4AA9-415E-B178-C2DB44E6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77E-9867-4DFD-951A-022AEBD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B8E2-FBEA-4001-9EDE-45C0192E67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