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26448"/>
        <c:axId val="20971851"/>
      </c:barChart>
      <c:catAx>
        <c:axId val="12126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1851"/>
        <c:crosses val="autoZero"/>
        <c:auto val="1"/>
        <c:lblAlgn val="ctr"/>
        <c:lblOffset val="100"/>
        <c:noMultiLvlLbl val="0"/>
      </c:catAx>
      <c:valAx>
        <c:axId val="20971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26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E8A-D9E6-4C09-BBE7-C779E5C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F27-4168-4932-8B52-7F8E607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F78-7B51-44F1-A615-A2A8453C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240-B50F-42F5-9C85-BE0EE57A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DF0-38D7-4C3F-9A33-95F609F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6AB-6753-4218-A083-ABA8847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CBB-8153-4FF8-86DC-B193C09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307-9007-4DDA-911E-69ABC56A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E35-8961-4A6B-BC4C-1AC697B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F4A-66D8-4E69-846B-562B4D7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6DD-2F49-4036-83D2-6E915F2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A2D-5B91-4FFC-82A2-6F6DEEC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F39E3-3C86-4BA0-9E60-EB2A0499A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