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40000"/>
        <c:axId val="83783405"/>
      </c:barChart>
      <c:catAx>
        <c:axId val="68240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3405"/>
        <c:crosses val="autoZero"/>
        <c:auto val="1"/>
        <c:lblAlgn val="ctr"/>
        <c:lblOffset val="100"/>
        <c:noMultiLvlLbl val="0"/>
      </c:catAx>
      <c:valAx>
        <c:axId val="83783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40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B48-D874-445B-8D25-ABBE38F3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A25-FD1A-40AF-AD8E-465E88F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021-F5EC-4E65-983A-135F4624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ACA-F3B9-499F-A067-522E09AC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836-5295-4961-A7FA-2C6FDA53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0C2-1511-4D59-A277-D56313D4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263-233C-4961-BF4F-25010BE6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F5A-D07E-4CDB-87BA-311D02D7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074-B5F1-4F94-A6F8-76AA0558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6BD-3A2A-462C-AE2B-13C9D3C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942-E84D-4CE2-A3EA-5553890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FDE-E0B8-4C7C-A8FD-C6719B2D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21F09-2E9F-40E9-BEAF-F75428E50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