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91206"/>
        <c:axId val="70737919"/>
      </c:barChart>
      <c:catAx>
        <c:axId val="33991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37919"/>
        <c:crosses val="autoZero"/>
        <c:auto val="1"/>
        <c:lblAlgn val="ctr"/>
        <c:lblOffset val="100"/>
        <c:noMultiLvlLbl val="0"/>
      </c:catAx>
      <c:valAx>
        <c:axId val="70737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91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8DA-FAAE-432D-960F-8839DD8A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16F-3676-4220-A1C1-C39F29D6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E37-EB4E-452F-8132-FEB611D1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A4E-0B16-4E9B-88F7-F6E4075F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06C-674B-4081-9A8C-BFE5205B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FC7-8E6D-47C4-B4E6-8C0CB647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6A0-2C95-4D67-A30E-0410F871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C00-486A-46AB-99FE-0D7C8527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796-EBEE-4237-9548-08B13683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195-3735-4BDD-BF58-EBE0724B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247-794E-4549-8415-188E51A3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8AC-8801-45AE-89F0-978C50EF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37225-C6D9-41D5-9D42-E6D6E31CC2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