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17030"/>
        <c:axId val="11171433"/>
      </c:barChart>
      <c:catAx>
        <c:axId val="64617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71433"/>
        <c:crosses val="autoZero"/>
        <c:auto val="1"/>
        <c:lblAlgn val="ctr"/>
        <c:lblOffset val="100"/>
        <c:noMultiLvlLbl val="0"/>
      </c:catAx>
      <c:valAx>
        <c:axId val="11171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17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B25-671E-4538-BA18-23B20BBA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55A-0322-4266-B248-458CD138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B91-9C27-4503-9031-D0D5BBE6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F2B-8FC9-4497-BBA5-A33EC41F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C0A-4012-444E-AAC6-67576325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BE9-0B4A-4330-A87A-1A3DA4C6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E5B-6F49-4455-A190-169F8C3D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DC2-96CF-4A20-A3CD-94418553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2D8-3B45-43EB-89F3-B04A7777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D8E-258A-4702-9412-B3FAD66D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18C-735D-454A-BDB3-7E230567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E06-CA91-422B-8CB2-5FD2F715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11594-F74B-4F73-B4DA-6F3A50BC15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