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755"/>
        <c:axId val="45914351"/>
      </c:barChart>
      <c:catAx>
        <c:axId val="397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4351"/>
        <c:crosses val="autoZero"/>
        <c:auto val="1"/>
        <c:lblAlgn val="ctr"/>
        <c:lblOffset val="100"/>
        <c:noMultiLvlLbl val="0"/>
      </c:catAx>
      <c:valAx>
        <c:axId val="45914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14D-8249-4EC3-BFBF-1959A10C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7E-CDB4-45BA-B747-84967015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9BC-227D-4DB6-8C27-8C93E43A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6FD-DD65-46E9-A43F-D650B1C6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7E2-ACBF-4123-9237-7EDB23D4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178-068A-496D-9892-18BAD72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DA6-CFCD-4F8C-BE23-8663FC2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80C-1299-4001-BD9D-3EDC0E8B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7AF-5815-4046-AFA9-E1DC4F33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D5B-7F6B-47DE-A7D7-8DED424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C0B-0522-45D1-B7AF-589F60E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AAE-AF52-4919-8ACD-6155B17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786C2-7C5B-4764-9998-2F8C7E0CEA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