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96118"/>
        <c:axId val="309431"/>
      </c:barChart>
      <c:catAx>
        <c:axId val="69696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431"/>
        <c:crosses val="autoZero"/>
        <c:auto val="1"/>
        <c:lblAlgn val="ctr"/>
        <c:lblOffset val="100"/>
        <c:noMultiLvlLbl val="0"/>
      </c:catAx>
      <c:valAx>
        <c:axId val="309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96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01A3-631C-4764-96EC-7998D79F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F87-0DDF-4B84-A614-9B64D021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D3A-2F37-48F8-BA8E-6ACC2A77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D3F-1C58-4D94-BFB2-6AC39A7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E815-9811-4BD3-BC51-8BC7F62A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D0F-C74F-4405-BC4B-78E5269E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D1B-55B3-4778-A26E-D6B45B8E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3CE-67B9-48C4-9C6E-8E804F6C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584-94ED-4EFD-8BC0-2ED25F69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D44-F38F-4E90-A430-D5B3F7A0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DF1-1A34-4A1F-A7F1-7BD759A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66A-A156-42DB-BA01-CA7C1406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62CF0-FB74-4429-B70A-BAAF01AB64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