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6652"/>
        <c:axId val="75251495"/>
      </c:barChart>
      <c:catAx>
        <c:axId val="6098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1495"/>
        <c:crosses val="autoZero"/>
        <c:auto val="1"/>
        <c:lblAlgn val="ctr"/>
        <c:lblOffset val="100"/>
        <c:noMultiLvlLbl val="0"/>
      </c:catAx>
      <c:valAx>
        <c:axId val="7525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933-AF37-46A7-A26A-CC636885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E96-F35F-470C-87C0-1ECC901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49B-7616-4296-9DAF-184B21F1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4C0-DCD2-499C-97F3-1B28EA2F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DEE-DFC4-4F7C-A94D-4AD9D4DC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47C-5614-44C9-A07E-79F7261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92E-F105-4751-841F-7D7D3A0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853-FEE9-4909-9A79-073471C9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FB2-7C47-4844-B3D0-2427AE8C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970-5406-43E3-8092-01CA24D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75F-F152-471E-BB23-926D9C84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6E6-1D0F-4D61-92EC-6618CE2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B9958-549F-49A4-9715-393EF6FE95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