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3963230"/>
        <c:axId val="27771286"/>
      </c:barChart>
      <c:catAx>
        <c:axId val="13963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771286"/>
        <c:crosses val="autoZero"/>
        <c:auto val="1"/>
        <c:lblAlgn val="ctr"/>
        <c:lblOffset val="100"/>
        <c:noMultiLvlLbl val="0"/>
      </c:catAx>
      <c:valAx>
        <c:axId val="2777128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963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B0361-8E1B-4ED3-93F5-1927F8705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974B-FC31-4486-9A25-C0BD9E9D1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5E9A-F051-4D1E-898A-DCD39178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15EB-8405-4458-BAE4-CC4CE09D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B01D-A0B1-4066-9697-DF0990EF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D74D-042F-4B06-8735-16526C20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AA5-E594-48FA-B7B8-6B00B756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7E42-986E-4EAF-B59F-26A1A75D6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F9AB-6BA1-41EA-A050-EF1FD0C77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45B5-B76B-4E29-9BAC-437942DA4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7D91-0237-4124-8219-61CBDE7AA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EC80A-751A-4A84-8AE2-734056613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F85F5-17CF-467B-947A-74FD979DE6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