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28879"/>
        <c:axId val="83580331"/>
      </c:barChart>
      <c:catAx>
        <c:axId val="90728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80331"/>
        <c:crosses val="autoZero"/>
        <c:auto val="1"/>
        <c:lblAlgn val="ctr"/>
        <c:lblOffset val="100"/>
        <c:noMultiLvlLbl val="0"/>
      </c:catAx>
      <c:valAx>
        <c:axId val="83580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28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5C4-0B7A-4298-BE45-293A80F3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706-44AC-46FB-94DB-CE66B81B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9F4-0A44-47E0-B88B-2B8C146E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B2F-4160-4649-82EB-98571BBF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D00-9243-455C-A99A-46BEBA1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3BF-8A07-4901-8264-640C62FC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AC3-6164-40FE-BC31-31EFEE63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D4B-E1AB-4255-927E-1826EFE2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77B-F689-470E-92F5-294EA4A1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E68-50A3-4DF7-8A23-24C1ED0D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269-F12E-425E-8C1E-2B149688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478-3D94-4850-BACC-8A0794B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8D4A8-649A-426A-AB39-12D2C26A3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