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33956"/>
        <c:axId val="97458193"/>
      </c:barChart>
      <c:catAx>
        <c:axId val="48733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58193"/>
        <c:crosses val="autoZero"/>
        <c:auto val="1"/>
        <c:lblAlgn val="ctr"/>
        <c:lblOffset val="100"/>
        <c:noMultiLvlLbl val="0"/>
      </c:catAx>
      <c:valAx>
        <c:axId val="97458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33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853-1ED3-4B2D-B33C-04CA1116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2A9-1A12-40A1-9930-E055067D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027-CE03-4CD1-94C2-C8D7A05A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747-C18A-4374-978F-9CB7F77B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AFF-8085-4BC7-B35A-A1F4AB13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F33-2B75-42E8-8287-E24DFB60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592-067A-49A2-A510-52D81000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D85-32F7-4061-B91D-E159030B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1FE-43BF-4BDB-9696-C2B2DE98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57A-83D6-437A-A593-805AFFB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C11-39FF-4600-819B-2873F86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191-76A5-4F19-94B5-F872D45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19C5B-4359-4256-BFE6-A8BED30226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