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149999"/>
        <c:axId val="7003203"/>
      </c:barChart>
      <c:catAx>
        <c:axId val="221499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03203"/>
        <c:crosses val="autoZero"/>
        <c:auto val="1"/>
        <c:lblAlgn val="ctr"/>
        <c:lblOffset val="100"/>
        <c:noMultiLvlLbl val="0"/>
      </c:catAx>
      <c:valAx>
        <c:axId val="70032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1499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9545-D5E7-4121-A6BD-D6C59D91D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4004-07EA-4C64-B4DA-38C99867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CEDD-BC7A-4570-A3E5-42981378E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72CE-28C0-416F-9C9E-65485308F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0EA7-BD7B-4109-B3B3-74A760DA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930D-F869-44E5-AE7E-37CC0372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821A-B166-43ED-8AE3-959761BD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05C8-DBFA-4EDC-8842-55EBA925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9752-C4DA-4BCE-9121-0C67561D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3652-8FAC-484F-9042-30CD6230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11C0-C654-4CAE-BFC4-5047D609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BB06-1E3E-45D8-A72A-55D5977C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CAB482-1697-4A68-93B0-D34D5F2913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