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97839"/>
        <c:axId val="55744688"/>
      </c:barChart>
      <c:catAx>
        <c:axId val="55897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44688"/>
        <c:crosses val="autoZero"/>
        <c:auto val="1"/>
        <c:lblAlgn val="ctr"/>
        <c:lblOffset val="100"/>
        <c:noMultiLvlLbl val="0"/>
      </c:catAx>
      <c:valAx>
        <c:axId val="557446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97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49D-9F87-4D99-94FA-17671BE7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C88-A785-4247-AE08-68FE846B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6E5-963D-47E5-92B6-69ABD805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9D81-BFC2-40EC-BEF8-91E2494F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537-7016-48F4-AD3C-8DF8EAF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8DC-DE37-4DAC-A265-8FD69AEB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1A9-C5F1-473B-9CD0-108CBE9C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A942-E707-4801-B0E7-9C747F14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D6C-A248-4E0F-9F87-F72FA20C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527-544A-453E-8F59-AB8134C8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272-CB65-4471-9691-1D0378B3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D363-6A9B-4C56-85D6-3AA9CEF2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61515-B776-4645-A1E2-6C82EA4AE8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