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49953"/>
        <c:axId val="14596234"/>
      </c:barChart>
      <c:catAx>
        <c:axId val="75549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6234"/>
        <c:crosses val="autoZero"/>
        <c:auto val="1"/>
        <c:lblAlgn val="ctr"/>
        <c:lblOffset val="100"/>
        <c:noMultiLvlLbl val="0"/>
      </c:catAx>
      <c:valAx>
        <c:axId val="14596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49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998-73C2-404E-B0E8-C54C7CAB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62D-FCD6-4025-B467-45D66E04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226-9C93-44A0-9746-854B85DF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4F5-12C4-4FD2-9041-DF186420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5C9-6024-44FA-A049-FEB06197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D10-2469-4649-9984-3F0872B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A0B-B5C1-4A67-B7BA-3F9947B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B83-DA36-4B58-98BC-63C26CE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C3A-9FB1-4C2D-A594-6774976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AC9-D6A5-40AD-8D63-B4218F8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C50-24AC-4335-9DE0-C635D1E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1E9-AF60-4403-9EE9-F104D04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424F-3B50-4B13-937E-364FEEBD83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