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19857"/>
        <c:axId val="92673037"/>
      </c:barChart>
      <c:catAx>
        <c:axId val="716198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73037"/>
        <c:crosses val="autoZero"/>
        <c:auto val="1"/>
        <c:lblAlgn val="ctr"/>
        <c:lblOffset val="100"/>
        <c:noMultiLvlLbl val="0"/>
      </c:catAx>
      <c:valAx>
        <c:axId val="926730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198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01C-5A23-4A79-9DB7-341A35A6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A157-F876-485B-8FD9-E5EA6B1B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30F5-1AE4-4414-9EB5-F094B049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518-414D-4AC2-A3D8-42A78947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8D7-50CD-4329-A76D-87AB5D6A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87D8-213D-4CB0-8E33-8392E1C0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348-CF9A-475C-B415-0F0B362B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92F-E59D-400B-95F4-E15CCD92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E6D-CAF7-4285-956C-3C36A8DC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A15-3069-4B5D-9359-E2D2D63E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E4B3-807C-410B-A62B-B319B88E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F5BA-A5DF-4EDC-AC59-C8DD2517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E5B1C-A3D6-444A-8A1F-6E120AE7CF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