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32480"/>
        <c:axId val="81510110"/>
      </c:barChart>
      <c:catAx>
        <c:axId val="43932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10110"/>
        <c:crosses val="autoZero"/>
        <c:auto val="1"/>
        <c:lblAlgn val="ctr"/>
        <c:lblOffset val="100"/>
        <c:noMultiLvlLbl val="0"/>
      </c:catAx>
      <c:valAx>
        <c:axId val="81510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32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CF0-1967-4B66-A045-B352B7E9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47A-1CF3-4329-B5DE-AC99F52A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8E4-C4BC-41F5-AD2B-8DCAF48D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E9D-C9D0-48BA-820A-EE5A7347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5DE-122E-4B5C-B807-0440F64C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7F9-AA6E-439A-9A80-87945D6D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6AA-11DE-4B5F-B658-6A43415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29A-CFA5-451E-B021-94B36902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C7A-C057-4600-B46D-2D7BD9E0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ADB-087F-482A-AF5A-84F48DD5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E51-3CA3-4985-8087-3D15FAC2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1A8-AF64-48E7-8CDB-A4BB9210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7E216-C97A-4039-ADA3-EFFD69991A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