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26463"/>
        <c:axId val="5389726"/>
      </c:barChart>
      <c:catAx>
        <c:axId val="28626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726"/>
        <c:crosses val="autoZero"/>
        <c:auto val="1"/>
        <c:lblAlgn val="ctr"/>
        <c:lblOffset val="100"/>
        <c:noMultiLvlLbl val="0"/>
      </c:catAx>
      <c:valAx>
        <c:axId val="538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6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7EC-0957-4B3B-AFFC-45D27492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961-D92E-4BC1-8513-80384E6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7BD-887D-492F-BDF5-55FFFA5F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A23-377C-4A59-9152-C6093078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44E-F3A1-46E9-8FAD-A0B694B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895-9237-463B-B585-CAF7A502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324-8C58-4A9D-9F07-76BDA9F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8C7-2BF9-4479-BFB7-614C4B4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A3B-4838-4CE4-B2BA-36055DB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8DB-6D04-42E6-A918-2AE82E2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2B7-DF71-4971-887F-7EF1EC3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F1F-1A6B-4F6A-A6C9-1E34CE8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4F5E-27E8-4B84-A690-25C176457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