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6117901"/>
        <c:axId val="3884053"/>
      </c:barChart>
      <c:catAx>
        <c:axId val="1611790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84053"/>
        <c:crosses val="autoZero"/>
        <c:auto val="1"/>
        <c:lblAlgn val="ctr"/>
        <c:lblOffset val="100"/>
        <c:noMultiLvlLbl val="0"/>
      </c:catAx>
      <c:valAx>
        <c:axId val="388405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11790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C04DC-33C9-46EF-A8B0-52EB1E2C5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4D330-78B2-4FD6-B705-911BC26A7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3F2B6-1241-46CF-95B3-E6F381EA4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048EE-80C9-442E-A4C0-39C5317FD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5FBBD-BA1D-4366-A036-43FE7C850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AF167-B8B3-4B28-9893-40A8D29D0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A0E22-7208-4E63-9504-48FC909F6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2E2F3-3001-4230-8218-16EAE38D0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8E5CB-4D6D-4E53-B523-7369E9F62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00C0D-1F9D-4155-8FC5-5AA83BC88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D4D2F-E780-46DA-8C14-5D70D4A49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C12C0-460B-48AE-9A70-511051B81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F096AE-B23E-4BC9-8615-259E8B19E52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