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51991"/>
        <c:axId val="47969771"/>
      </c:barChart>
      <c:catAx>
        <c:axId val="432519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69771"/>
        <c:crosses val="autoZero"/>
        <c:auto val="1"/>
        <c:lblAlgn val="ctr"/>
        <c:lblOffset val="100"/>
        <c:noMultiLvlLbl val="0"/>
      </c:catAx>
      <c:valAx>
        <c:axId val="479697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519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8E6B-92A6-4507-A130-62790F84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C47-772B-49CD-89FE-06456C34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A73-FCC3-4F1E-8358-AF4A4538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80AD-0AA6-4211-9BC5-324614FE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CAE-825F-4CDA-B3C6-D996268F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B353-FD4B-4390-9057-3867F9CF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52E3-D502-47F6-8D93-7B8BFB33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7D2-2207-4479-AFF3-25CA1C39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CFC4-34C0-4E0C-916C-8D0729E0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30B6-4494-49F9-89C3-92911D02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30C-4C1B-4CD0-8EE3-2771EA08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5B64-197E-4D62-8324-452A1775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5CEED-D128-4464-92CD-E7DBE24C13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