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53535"/>
        <c:axId val="61187959"/>
      </c:barChart>
      <c:catAx>
        <c:axId val="33753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87959"/>
        <c:crosses val="autoZero"/>
        <c:auto val="1"/>
        <c:lblAlgn val="ctr"/>
        <c:lblOffset val="100"/>
        <c:noMultiLvlLbl val="0"/>
      </c:catAx>
      <c:valAx>
        <c:axId val="61187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53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C79-5670-43DE-A80B-63B9138B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ECF-1359-452A-8027-214DA1E2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DC3-0DC8-415A-9269-081DE53A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BD0-5A3A-4DA8-9991-B5DB996B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C18-9BD6-4AAF-95BB-B77A7E73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490-A97D-4F4F-92AD-A7937680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408-9EA2-490B-AC5E-2BF54C37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A55-D5C6-4A0E-A2C5-B12F2699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5ED-CD04-4273-9182-79ECEE47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F5B-CD18-4FF8-BAA3-3EC0E8BE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E70-3FF4-4C8F-BF53-FA5238F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982-8973-469C-911C-B13D6708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FD852-2218-4AD8-AB4C-069F5E1C64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