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8961"/>
        <c:axId val="91721859"/>
      </c:barChart>
      <c:catAx>
        <c:axId val="1058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21859"/>
        <c:crosses val="autoZero"/>
        <c:auto val="1"/>
        <c:lblAlgn val="ctr"/>
        <c:lblOffset val="100"/>
        <c:noMultiLvlLbl val="0"/>
      </c:catAx>
      <c:valAx>
        <c:axId val="91721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8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78A-BBE9-4219-8F44-CBAC837B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E38-B021-4FA2-8B10-DC8868BF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7A2-E18B-40E0-96C8-03DCB50F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9C4-C128-4F54-8D03-2A99CE26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FB0-3772-454B-9122-F909ABEB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240-69B4-4449-B9BD-441AC816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3B6-08DD-4C7D-A6E4-68332C71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0D5-5437-4114-8DB5-6B18E77D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864-8C3F-4B87-9A3F-E476E1C8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D47-9C0D-4D48-B5BB-2C45FB4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ADA-C6AE-4C46-B45F-BE1B087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C56-2E48-458B-BF62-996A05E9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3D7C8-6524-45A3-801F-44F3459141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