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18741"/>
        <c:axId val="74203827"/>
      </c:barChart>
      <c:catAx>
        <c:axId val="45018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03827"/>
        <c:crosses val="autoZero"/>
        <c:auto val="1"/>
        <c:lblAlgn val="ctr"/>
        <c:lblOffset val="100"/>
        <c:noMultiLvlLbl val="0"/>
      </c:catAx>
      <c:valAx>
        <c:axId val="74203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8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961-9D1F-4AA6-B2D1-1A6C48C5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9DB-C34B-4582-B043-F9BED373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E8E-E7EF-456D-B820-8CD493FA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C91-215C-430E-8664-E2036042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AC7-514A-4605-AB1D-A6B6134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470-8699-416A-955B-415B1AA5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DA4-57D2-4A30-BE60-47DBEAE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DF9-646B-489E-9D92-6D41309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6B7-66D8-40AE-B315-EAFB85A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3B2-A0B9-4EC3-BFA6-A9C6A60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6D9-45C9-48F5-B363-615D312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11C-100C-4022-83A9-88BDD2B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C3BC-3E06-4424-AF9D-1EE88643B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