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4479"/>
        <c:axId val="42497799"/>
      </c:barChart>
      <c:catAx>
        <c:axId val="8814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97799"/>
        <c:crosses val="autoZero"/>
        <c:auto val="1"/>
        <c:lblAlgn val="ctr"/>
        <c:lblOffset val="100"/>
        <c:noMultiLvlLbl val="0"/>
      </c:catAx>
      <c:valAx>
        <c:axId val="42497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4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F4A-CD53-494F-A530-4F84022B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159-6860-4A33-B066-7D37E933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24B-0EE3-4DC6-AE38-634BC37C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248-3B17-480F-827C-8709CF75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35B-2E50-461A-B03B-3A1EB99D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82C6-0FFA-40B9-BC01-9434FB29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8E5-DD69-4089-9461-ACC592E4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A1B-62AE-4965-B0B5-8039944C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B39-BC46-4525-988A-F0146092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693-7D5E-42DC-B27E-E74C0C86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2F6-63B4-4ED7-92D6-B68981D5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BF7-391B-485D-8602-761BB08C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3045C-3496-4824-A024-0BE593FF00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