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05725"/>
        <c:axId val="55495321"/>
      </c:barChart>
      <c:catAx>
        <c:axId val="40705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5321"/>
        <c:crosses val="autoZero"/>
        <c:auto val="1"/>
        <c:lblAlgn val="ctr"/>
        <c:lblOffset val="100"/>
        <c:noMultiLvlLbl val="0"/>
      </c:catAx>
      <c:valAx>
        <c:axId val="55495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5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659-BC47-4C92-8C6E-7D27682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451-333E-4CE4-B8FB-1C43206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035-9459-4080-BD7C-E98233F4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48F-741D-4748-ADF5-1C5BEB0C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25D-CA30-4493-8456-01A6F32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242-9316-42B7-9804-49EF45B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FB2-6F84-44A5-A8D1-DC591507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95A-30F5-4744-9C04-FEC861DE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427-67FC-4B60-B7B4-438C319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F57-FC9E-4819-B31A-955265C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354-4F25-462F-A1D4-44B9B59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27F-4611-4BD1-8E87-984F43A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D897-822A-4EE2-9130-A348D0728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