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90103"/>
        <c:axId val="4459757"/>
      </c:barChart>
      <c:catAx>
        <c:axId val="44290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9757"/>
        <c:crosses val="autoZero"/>
        <c:auto val="1"/>
        <c:lblAlgn val="ctr"/>
        <c:lblOffset val="100"/>
        <c:noMultiLvlLbl val="0"/>
      </c:catAx>
      <c:valAx>
        <c:axId val="4459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0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C0C-C539-4059-AA1A-9D93A243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9E1-8D8E-4C91-B9F9-F4AD5694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6A2-095F-46F9-BD54-42BD1627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E3E-EED8-4B56-85D3-6BF4E6A8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DD5-7E02-4943-B8DE-DC383E34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DC2-1C13-4399-87E1-CC3D499C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DE6-2016-4ECE-B970-50CD66A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80B-970D-46C1-944A-6D01C0A4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2B6-0746-43EF-883D-0AE80B06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6B-C032-4921-8332-E033C71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4E4-BCF6-483F-A830-07CCC88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D74-FEBB-4C93-8FD2-DEF74B73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E3582-65CB-4F06-881A-BA951D6F56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