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23057"/>
        <c:axId val="62775330"/>
      </c:barChart>
      <c:catAx>
        <c:axId val="22623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75330"/>
        <c:crosses val="autoZero"/>
        <c:auto val="1"/>
        <c:lblAlgn val="ctr"/>
        <c:lblOffset val="100"/>
        <c:noMultiLvlLbl val="0"/>
      </c:catAx>
      <c:valAx>
        <c:axId val="62775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23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75B-91FE-4725-8C29-FEB14A27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6F9-7C19-4949-87B8-0147CAF0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E1F-BF79-4DD1-A2CC-482C1A9A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629-0D89-4477-B5C6-71430212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D19-4E72-45AB-B638-1F885D31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E95-EF5A-4D26-8101-A55ECA9C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643-B552-49DD-9C7A-99789CC8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457-4713-40F9-839D-14E3E833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654-F3D1-4E38-AF7F-57D87852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257-A602-4DDD-BEB2-87205F81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3CDE-B81E-45B5-BE6C-FF0F77AE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1BC-B21D-4FF2-9C57-0449AE65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28210-C4AF-4192-BA39-DC3F65E204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